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CDD0E-FA09-4C26-A5CD-76D7B501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3E1BB-8672-421D-BCD6-1A415F3A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0D7B6-E5BA-4A34-AD1D-B254C644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C8ED9-20BB-4F26-B389-C2AE2B8D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ED95D-8751-40FC-9747-C5634DAC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C149F-D0AA-4CB8-9D77-046262EA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2D8A3-C506-46DC-8196-F04D4FD1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6F547-2C7C-4CB0-BAE9-22DB7BDE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5AB0F-24A6-4577-8249-95612655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BED98-117A-49CA-8C61-75C035E9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FD7AE-7FF6-4328-8101-6C36F08E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08046-0058-4A7A-AF7E-3E85B7D2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002BA-181D-40E6-956A-3AEE8C92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280CA-412C-448B-AF07-244D27B2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F1E79-1480-4F77-A455-1AD731D2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162DF-D79C-44DA-83C6-D0361CE6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77BC9-ABD9-4EDA-BC4B-F3F2448E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4ABC0-696F-4378-B1F6-F34CBB2C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F257A-EB7B-4BB4-95A9-43E1895A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8F529-2184-42C3-AC04-4206A4D4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F8123-6BAA-4BB5-9DAE-F48078C3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C3A38-AB51-4814-90B3-B9797B75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A6BBB-BD31-4A27-A9AA-1B64D8BE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B7442-B73B-44E6-BAD9-8283E50F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C6208-3380-4C34-A651-16ECA711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7023D-F264-4C27-BBE5-9734CE19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2E34B-5530-4A54-A5C4-DB1CC8C0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CCCCA-135A-40D4-8B7F-B9E11FE4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CF94A-9535-4D58-A54A-B8F43E84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6A2D6-3835-4DDA-925F-E334B5EB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448-5119-427A-872B-42DA656C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BEEEA-5A6B-43EC-8CEC-3A46C719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1412D-5A56-4661-929D-FCA68861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3E2D3-320E-4499-9F92-312396F3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BBC9A-7281-4A5F-8A51-7EB5EF8A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9BAD8-4184-4692-979F-45FB9469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EDF40-C070-4CB6-BDA2-0B413782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2852C-3A5C-4EBD-BFF7-CA5E1EB1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6A06D-205E-456C-8946-42316052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A356E-A776-4444-90D2-AA0D923E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A1F0E-B670-4C8F-9F22-54C0098F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CC8-FB17-4FFA-882C-CE0D626E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271C9-8E3C-49DD-8FE5-D1358417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0D4F2-8C62-4EF1-A7EF-45B2B5DA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C176D-B33C-449C-BEE9-32378421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EA130-96E9-4FCE-859F-36556E00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0BEC3-DF0C-4615-BAA2-98F5FF54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9AA-7A09-45C3-A3B5-2F0D6F69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314-8596-4B77-B52C-65FDF17B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313-80DC-4D83-B950-1D6B0978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DAD-62E2-4578-BD8F-8E40FBD1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26E-73A5-44ED-98D4-E51586CB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E3C-A4F0-42A2-8949-63A5F846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9A6-B881-4635-934D-B45A5D54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D48-FF18-4C19-B37B-D92217A1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259-E210-4EDB-9675-0087E970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F22-D781-4CCF-957B-57C4377D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F05B-9040-4DA0-A3C1-CBD7AB68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AA1B-C241-4644-9D9A-0CFCB5B4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18A1-2B80-4913-9AEA-006930A8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5E76-52F1-4955-9A9E-FFE99A97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52A2-562B-4FB1-BB2F-4A3BE4F7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06FF-2A6B-4F9C-A937-E8A782CA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ACC8-B298-46A7-9EEF-915CDAA8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EB0F-A8DC-4BBE-800A-78D2DE25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8EDF-E21F-41BD-87CC-F4BC8106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B0CA-FF0D-428F-BC84-1E3B0261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AA3F-0F77-4738-B775-F948807B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AF3E-8130-4087-ACDD-5CE7C0FE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572BF-FB33-496C-8F10-C7AF6D9D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57191-CB15-40B5-9870-1F14E905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BEF77-D927-4EE7-A5CC-9A893476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67BE4-DA02-46B8-A8E9-52D09B40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A2EEE-500E-45B5-95EF-0B595C86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8C4CA-299D-4E64-9301-28C44821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57190-4135-4E70-93B9-AD33FBE5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F2D91-F92E-4AF6-9961-6D8902FC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7D10E-6604-400E-96F6-B0D7CD0B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7EBAD-806D-4E21-961E-25D2D267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19254-DBAF-41B8-93FB-E21FB051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074C-7188-4000-B9CA-3341BE00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D008E-2970-45A2-AD49-8E069A54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90113-C369-4646-8769-2522C3D5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9A2C1-A937-4010-8904-EC546DDF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2DD13-388C-4305-8743-F9805701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5476D-6439-4635-9102-E9530FCF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FC83D-59A3-446A-874F-E1CF7D66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BD0BB-0F05-4D48-8386-18BE426B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C081C-D304-4514-948A-200D9F38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4EAE2-EB11-4D1E-A70D-C46E2F68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D6914-DDC4-4FA4-8692-FE289FD1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89EB2-A481-40FB-9408-0B72D65F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B9A03-6C8C-4F31-A4FE-6E1B8C27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5F1D5-D587-41B9-9BC9-07813F06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0D7BE-4DB0-4C09-9FD6-F1526437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76B72-17FD-49E6-8093-4C71373C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C6D47-C5F0-4EBF-BD07-5319F673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ACDCF-5ACB-4F53-80D4-3D1E43FA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0D3CE-9A0E-4247-ADF8-DB1C0041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1C368-431C-4F19-8F9E-87672BBB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4118C-08B3-4708-9460-6F4C2F6B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C4EEB-B271-468A-AC42-E0354A35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F2794-6810-42A7-8287-F31F6EEB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F9455-1D92-473E-B234-265DB1FD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FA5AA-9272-4AC2-AF9B-89C0ECDB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AEBE6-E498-4D94-A626-BC83823E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E54A5-E092-4FE5-B99B-FC06E92B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FDD5B-668C-4DF7-B662-902D63B2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60E7E-6F19-4699-AF70-0856EAED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5DE10-E10E-4788-8619-3803FFEE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F7B7B-CFA2-4FEC-991C-83C4AA7F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11184-DCF3-4937-84CE-57D4C2A7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1E341-E842-4C38-BF3D-0CCDE45F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C8BB8-9591-4CB9-AAC0-6BBD1DBE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98E13-278A-4E20-A3E3-E9306D33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DFDDB-B0DC-468B-8525-6C2A65C0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05CFA-6347-4203-AF8D-3E9516C1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5BBCB-419C-440D-92B8-24707C66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0536D-D39B-44E7-A6FC-106EC9DE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2E5BF-81C3-4F07-ABB2-DA70D1E4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244F2-923F-454F-909A-BE69897A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88F13-EA43-43B0-B908-7D915EFD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6AD33-8A5F-4191-9205-C3D35518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957D5-6350-407E-B7C8-5F2DE23C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F19EE-99FF-4FCA-B6D4-0EA957CE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B73A5-F6DC-4FF1-B2AA-FA580F38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9AA8F-FCD1-4FBC-B492-2827F0EB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3713B-A467-40E3-AFD9-B672353F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98E23-F64C-46CB-B914-5D5F3E09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A1C4A-CEF6-4177-AADB-29658247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BDBF3-7E91-4714-A1C2-DCA3B8E5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7CD7B-660B-4BBF-A8F6-66F50957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913E-8F0A-4CCD-B56B-3BB0F8BB844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194D-F45A-4742-8BF0-802E1D886A6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924B-1C38-45BC-8C67-8A66D74C934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2D4E-4673-4CB6-8F0D-87A236A2E01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D3EC-1A15-4BB8-A4F6-CA0579BDE82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627D-A826-472E-8410-F31266C9B70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4A02-4E43-4C3D-A0B9-33D8E6B4756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247F-9691-4357-B708-0FE49658A31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8F16-AB1E-41B0-9922-51C2F558F4D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C0CC-17D8-4A22-B635-CBD4E56B512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D6CA-90E4-4A43-900E-9906E4BFE80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252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0:38Z</dcterms:modified>
  <cp:revision>374</cp:revision>
  <dc:subject/>
  <dc:title>Diapositiva 1</dc:title>
</cp:coreProperties>
</file>